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hapter" id="0">
      <p:sldLst>
        <p:sld r:id="rId6"/>
        <p:sld r:id="rId11"/>
      </p:sldLst>
    </p:custShow>
    <p:custShow name="ELI Sect 2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  <p:custShow name="ELI Sect 3" id="2">
      <p:sldLst>
        <p:sld r:id="rId3"/>
        <p:sld r:id="rId18"/>
      </p:sldLst>
    </p:custShow>
    <p:custShow name="ELI STP" id="3">
      <p:sldLst>
        <p:sld r:id="rId7"/>
        <p:sld r:id="rId13"/>
      </p:sldLst>
    </p:custShow>
    <p:custShow name="Bellringers" id="4">
      <p:sldLst>
        <p:sld r:id="rId6"/>
      </p:sldLst>
    </p:custShow>
    <p:custShow name="Chapter menu" id="5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3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cean Ba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1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the Ocean Floo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of the Ocean Floo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ental Margi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-Ocean Basi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ean Floo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-ocean basins also have distinct feature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eatures include broad, flat plains; submerged volcanoes; gigantic mountain ranges; and deep trench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the deep-ocean basins, the mountains are higher and the plains are flatter than any features found on the continents 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-Ocean Basi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-Ocean Bas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ench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ench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, that runs parallel to the trend of a chain of volcanic islands or the coastline of a continent, and that may be as deep as 11 km below sea level; also called 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cean tren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ep-ocean trench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s occur near trenches. Volcanic mountain ranges and volcanic island arcs also form near trench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byssal Plai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byssal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yssal plai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ver about half of the deep-ocean basins and are the flattest regions on Earth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yers of fine sediment cover the abyssal plain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ckness of sedi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abyssal plain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termined by three factor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-Ocean Bas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d-Ocean Ridg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prominent features of ocean basins are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d-ocean rid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form underwater mountain ranges that run along the floors of all ocea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-ocean ridges rise above sea level in only a few places, such as in Icelan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yssal hi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-Ocean Bas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d-Ocean Ridg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ridges adjust to changes in the direction of plate motions, they break into segments that are bounded by faul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aults create areas of rough topography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racture z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run perpendicular across the ridg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-Ocean Bas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amou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amou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eamounts form in areas of increased volcanic activity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t spo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mounts that rise above the ocean surface form oceanic island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ectonic plate movements carry islands away from a hot spot, the islands sink and are eroded by waves to form flat-topped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merged seamounts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uyo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blemoun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ep-Ocean Bas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Ocean Floo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7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in features of the continental margi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in features of the deep-ocean basi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eatures of the Ocean Floo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inental marg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ep-ocean bas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ean floor can be divided into two major area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ne that divides the continental crust from the oceanic crust is not abrupt or distinc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orelines are not the true boundaries between the oceanic crust and the continental crust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undaries are actually some distance offshore and beneath the ocean and the thick sediments of the continental margi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inental Margi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inental Shelf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ents are outlined in most places by a zone of shallow water where the ocean covers the end of the continent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inental shel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lf usually slopes gently from the shoreline and drops about 0.12 m every 100 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inental Marg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inental Shelf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depth of the water covering a continental shelf is about 60 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it is underwater, a continental shelf is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sea level affect the continental shelv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inental Marg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inental Slope and Continental Ris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called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inental sl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tinental shelf and continental slope may be cut by deep V-shaped valleys. These deep valleys are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bmarine cany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inental Marg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inental Slope and Continental Rise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anyons may form over time as very dense current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urbidity curr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rry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bidity currents form when earthquakes cause underwater landslides or when large sediment loads run down a slop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called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inental ris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inental Marg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inental Margi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features of the ocean floo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460440" y="2300400"/>
            <a:ext cx="8226360" cy="35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3-04T23:21:18Z</dcterms:modified>
  <cp:revision>599</cp:revision>
  <dc:subject/>
  <dc:title>No Slide Title</dc:title>
</cp:coreProperties>
</file>